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F74-DF56-4092-8C81-3157CBF1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3F7-001F-4D10-BA85-F0C41CAB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726-7644-4C59-9580-5EFD7CC6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12A-7B48-40B7-B770-E7D1ED4A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8C7E-A3A0-4864-89AB-956E711A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F6A-EE44-4CA6-9DD3-7C5D0334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C4D-4062-44C3-BA09-DC2CA2CA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84B-65C8-46AC-ABEC-F48C841B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EBA-B85D-459F-9E62-15FD0F9B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B412-544C-4BAE-A439-21D7BE85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21A-0A3D-4A37-B4E3-5CAD1DDB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A37-9AA3-47FC-A86B-63769D32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0680-6B54-4D8A-AD4D-605AB6D37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287866lcpLYmOAJ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238880" y="457200"/>
            <a:ext cx="16002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abic Transparent"/>
              </a:rPr>
              <a:t>كما يشتاقُ الأيّل إلى مجاري المي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7200"/>
            <a:ext cx="182880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كذا نفسي تشتاق إليك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ر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1287869xQRiyRyaRq_ph" descr=""/>
          <p:cNvPicPr/>
          <p:nvPr/>
        </p:nvPicPr>
        <p:blipFill>
          <a:blip r:embed="rId1"/>
          <a:stretch/>
        </p:blipFill>
        <p:spPr>
          <a:xfrm>
            <a:off x="0" y="0"/>
            <a:ext cx="60548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457200"/>
            <a:ext cx="2895480" cy="83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ظمئت نفسي إلى الله الح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متى آتي وأَحضَُر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أمام الل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507793AQtFtoRTjq_ph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52920" y="149400"/>
            <a:ext cx="4562640" cy="9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د كان لي دمعي خبزاً نهاراً وليل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ين قيل لي كلَّ يوم أين إلهُ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ماذا تكتئبين يا نفس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سأعودُ أعترف له أنت خلاصُ وجهي وإله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1287866lcpLYmOAJ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238880" y="457200"/>
            <a:ext cx="16002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abic Transparent"/>
              </a:rPr>
              <a:t>كما يشتاقُ الأيّل إلى مجاري المي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182880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كذا نفسي تشتاق إليك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ر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3385303cWwlWnYqMS_ph" descr=""/>
          <p:cNvPicPr/>
          <p:nvPr/>
        </p:nvPicPr>
        <p:blipFill>
          <a:blip r:embed="rId1"/>
          <a:stretch/>
        </p:blipFill>
        <p:spPr>
          <a:xfrm>
            <a:off x="4521240" y="0"/>
            <a:ext cx="9244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304920"/>
            <a:ext cx="380988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هار يأمرُ الربُ برحمت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في الليل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شد  صلا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إله حيات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286622bSprOQQocd_ph" descr=""/>
          <p:cNvPicPr/>
          <p:nvPr/>
        </p:nvPicPr>
        <p:blipFill>
          <a:blip r:embed="rId1"/>
          <a:stretch/>
        </p:blipFill>
        <p:spPr>
          <a:xfrm>
            <a:off x="-2362320" y="-30492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67280" y="27000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53960"/>
            <a:ext cx="4572000" cy="80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قول له لماذا نسيتني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أنت صخرت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ذا تكتئبينَ يا نفس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أعود أعترفُ له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ت خلاص وجهي وإله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1287866lcpLYmOAJ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238880" y="457200"/>
            <a:ext cx="16002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abic Transparent"/>
              </a:rPr>
              <a:t>كما يشتاقُ الأيّل إلى مجاري المي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7200"/>
            <a:ext cx="182880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كذا نفسي تشتاق إليك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ر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9:18:05Z</dcterms:created>
  <dc:creator>SUZANNE.MD</dc:creator>
  <dc:description/>
  <dc:language>en-US</dc:language>
  <cp:lastModifiedBy>USER</cp:lastModifiedBy>
  <dcterms:modified xsi:type="dcterms:W3CDTF">2003-01-22T11:23:52Z</dcterms:modified>
  <cp:revision>3</cp:revision>
  <dc:subject/>
  <dc:title>PowerPoint Presentation</dc:title>
</cp:coreProperties>
</file>